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06CD-E154-4ECD-B160-31C1BFA92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ARIS MON AMOU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6F4E-0C6F-4C07-95A0-A92D8A6298A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Piramida de sticl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este punctul principal de acces în muzeu, principala axa de circulatie in muze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CDF1-F7AE-4F80-A9B8-EB4BC59B391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serica Sacre-Coeur e ultima ridicata din fondurile statului francez, imbina stilul roman cu cel bizantin. Adaposteste si unul dintre cele mai mari clopote din lume, “La Savoyarde”, de 19 to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811C-1745-4EAA-8960-DB8D201760D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hilippe Morel, </a:t>
            </a: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L'art de la Renaissance entre science et magie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, Rennes, 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Pierre Chaunu, </a:t>
            </a:r>
            <a:r>
              <a:rPr b="0" i="1" lang="ro-RO" sz="1200" spc="-1" strike="noStrike">
                <a:solidFill>
                  <a:srgbClr val="000000"/>
                </a:solidFill>
                <a:latin typeface="Calibri"/>
              </a:rPr>
              <a:t>Civilizaţia europeană în secolul luminilor</a:t>
            </a: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, Buc., 198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Daniel Roche,</a:t>
            </a:r>
            <a:r>
              <a:rPr b="1" lang="ro-RO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o-RO" sz="1200" spc="-1" strike="noStrike">
                <a:solidFill>
                  <a:srgbClr val="000000"/>
                </a:solidFill>
                <a:latin typeface="Calibri"/>
              </a:rPr>
              <a:t>La France des Lumieres</a:t>
            </a: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, Paris,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Georges Duby,</a:t>
            </a:r>
            <a:r>
              <a:rPr b="0" i="1" lang="ro-RO" sz="1200" spc="-1" strike="noStrike">
                <a:solidFill>
                  <a:srgbClr val="000000"/>
                </a:solidFill>
                <a:latin typeface="Calibri"/>
              </a:rPr>
              <a:t> Histoire de la France des origines a nos jours</a:t>
            </a: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, Larousee,19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EB6D-AAEF-464C-9DC2-8D466A5545C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UM INFLUENTEAZA CUNOASTEREA ISTORIEI VIATA OAMENILOR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D581-651B-4CF1-BEA3-903FFE460A5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noasterea istoriei, obiceiurilor si traditiile unei tari ne ajuta sa ne imbogatim cunostintele pe care le putem folosi apoi in viata cotidia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3656-9030-4F51-8D96-7635B30565A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zentarea este o incursiune in cultura si civilizatia Frantei in cadrul unui circuit turistic, cu scopul de a cunoaste si aprofunda cunostintele despre centrul si monumentele Parisulu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55A1-4412-46D1-84C2-2807686CADC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ul Eiffel a fost construit intre 1887-1889, masoara 324 m si isi schimba inaltimea de cateva ori pe an, din cauza dilatarii aliajului. Necesita 70 tone de vopsea o data la 7 an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2BE6-C9B7-40E8-8584-61D8A57C5BD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Turnu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este una dintre principalele destinaţii turistice ale Parisului şi lumii, cu mai mult de 5,5 milioane de vizitatori anual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fiecare ora fixa turnul se lumineaza pentru 10 minu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D779-D821-467F-B191-A36F28CE2C5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 Bouquinistes de la Se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0025-7FE4-4009-8206-1067BCE5F68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sailles, 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Cel mai renumit palat din Franta, 350 de ani de istori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B344-D993-49D3-BC6A-9029BA4E6CA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vrul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este cel mai mare muzeu de istorie şi artă din Franţ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Adaposteste cele mai importante opere de arta din 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9998-E5FE-43CA-8D86-534AFBCB528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DBFF-BB13-47E8-87F7-C975202E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89B1-42FD-498F-AEF6-00916203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16E7-12BA-4E8D-B7C6-267335F2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A633-D8AD-49E5-901C-69CC526ED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3A9FE-119C-4A31-92C3-CD0D0866C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31F80-B8D4-401A-B8C9-EFC0AD5A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43DC3-E79F-4773-A6A6-9A37D59A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0F0DF-B254-4EC5-B4CA-D4F59047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B12EB-AB6E-40A8-B880-557180FB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95D8C-A1BB-4EF1-9310-20A6E99C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1E8D5-1ACD-4B1C-907D-B0DE4EDE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AE15-1723-49CD-A24C-F27FB800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D5A3F-23F2-4BC7-8F1A-7F459E6B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B88EB-C880-47C8-900C-C063D117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EC021-AB1C-4141-9DDB-09562A33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852CF-F1AF-45BE-8F50-8B8E44EB6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F818C-4C5B-44AC-B2EF-25BBB6D32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01EE-39AC-447D-9D96-5BDF0102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608D-A9B3-42A5-84C1-4A599EAD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AA4C-A124-40CF-9869-ED1AAE39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FA87-A5CF-41CC-BA1A-32C86074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F9FF-310E-4F12-9692-B4E00B26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42E6-EB55-4017-BAE8-2081A7AF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4713-5550-4652-B1A6-734C4778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FD1C-9845-4E75-9B95-9E9CA7A51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3C1B-0F13-452C-880C-BED069EBFE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arc-de-triomphe[1]"/>
          <p:cNvPicPr/>
          <p:nvPr/>
        </p:nvPicPr>
        <p:blipFill>
          <a:blip r:embed="rId1"/>
          <a:stretch/>
        </p:blipFill>
        <p:spPr>
          <a:xfrm>
            <a:off x="-942840" y="-447840"/>
            <a:ext cx="11991960" cy="77536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 rot="20284200">
            <a:off x="1779840" y="3149640"/>
            <a:ext cx="10972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Rockwell Extra Bold"/>
              </a:rPr>
              <a:t>PARIS MON AMOUR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Louvre-pyramid-daytime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457200" y="380880"/>
            <a:ext cx="4876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4d"/>
                </a:solidFill>
                <a:latin typeface="Tahoma"/>
              </a:rPr>
              <a:t>Piramida de sticlă</a:t>
            </a:r>
            <a:r>
              <a:rPr b="0" lang="en-US" sz="3200" spc="-1" strike="noStrike">
                <a:solidFill>
                  <a:srgbClr val="00004d"/>
                </a:solidFill>
                <a:latin typeface="Script MT Bold"/>
              </a:rPr>
              <a:t> este punctul principal de acces în muzeu, principala axa de circulatie in muze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sacre_coeur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0" y="457200"/>
            <a:ext cx="640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Rockwell Extra Bold"/>
              </a:rPr>
              <a:t>Biserica Sacre-Coeur e ultima ridicata din fondurile statului francez, imbina stilul roman cu cel bizantin. Adaposteste si unul dintre cele mai mari clopote din lume, “La Savoyarde”, de 19 tone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4" descr="montmart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place de la concor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4343400" y="5335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d030c"/>
                </a:solidFill>
                <a:latin typeface="Tahoma"/>
              </a:rPr>
              <a:t>Philippe Morel, </a:t>
            </a:r>
            <a:r>
              <a:rPr b="0" i="1" lang="fr-FR" sz="1800" spc="-1" strike="noStrike">
                <a:solidFill>
                  <a:srgbClr val="0d030c"/>
                </a:solidFill>
                <a:latin typeface="Tahoma"/>
              </a:rPr>
              <a:t>L'art de la Renaissance entre science et magie</a:t>
            </a:r>
            <a:r>
              <a:rPr b="0" lang="fr-FR" sz="1800" spc="-1" strike="noStrike">
                <a:solidFill>
                  <a:srgbClr val="0d030c"/>
                </a:solidFill>
                <a:latin typeface="Tahoma"/>
              </a:rPr>
              <a:t>, Rennes, 2005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d030c"/>
                </a:solidFill>
                <a:latin typeface="Tahoma"/>
              </a:rPr>
              <a:t>Pierre Chaunu, </a:t>
            </a:r>
            <a:r>
              <a:rPr b="0" i="1" lang="ro-RO" sz="1800" spc="-1" strike="noStrike">
                <a:solidFill>
                  <a:srgbClr val="0d030c"/>
                </a:solidFill>
                <a:latin typeface="Tahoma"/>
              </a:rPr>
              <a:t>Civilizaţia europeană în secolul luminilor</a:t>
            </a:r>
            <a:r>
              <a:rPr b="0" lang="ro-RO" sz="1800" spc="-1" strike="noStrike">
                <a:solidFill>
                  <a:srgbClr val="0d030c"/>
                </a:solidFill>
                <a:latin typeface="Tahoma"/>
              </a:rPr>
              <a:t>, Buc., 1986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d030c"/>
                </a:solidFill>
                <a:latin typeface="Tahoma"/>
              </a:rPr>
              <a:t>Daniel Roche,</a:t>
            </a:r>
            <a:r>
              <a:rPr b="1" lang="ro-RO" sz="1800" spc="-1" strike="noStrike">
                <a:solidFill>
                  <a:srgbClr val="0d030c"/>
                </a:solidFill>
                <a:latin typeface="Tahoma"/>
              </a:rPr>
              <a:t> </a:t>
            </a:r>
            <a:r>
              <a:rPr b="0" i="1" lang="ro-RO" sz="1800" spc="-1" strike="noStrike">
                <a:solidFill>
                  <a:srgbClr val="0d030c"/>
                </a:solidFill>
                <a:latin typeface="Tahoma"/>
              </a:rPr>
              <a:t>La France des Lumieres</a:t>
            </a:r>
            <a:r>
              <a:rPr b="0" lang="ro-RO" sz="1800" spc="-1" strike="noStrike">
                <a:solidFill>
                  <a:srgbClr val="0d030c"/>
                </a:solidFill>
                <a:latin typeface="Tahoma"/>
              </a:rPr>
              <a:t>, Paris,1993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d030c"/>
                </a:solidFill>
                <a:latin typeface="Tahoma"/>
              </a:rPr>
              <a:t>Georges Duby,</a:t>
            </a:r>
            <a:r>
              <a:rPr b="0" i="1" lang="ro-RO" sz="1800" spc="-1" strike="noStrike">
                <a:solidFill>
                  <a:srgbClr val="0d030c"/>
                </a:solidFill>
                <a:latin typeface="Tahoma"/>
              </a:rPr>
              <a:t> Histoire de la France des origines a nos jours</a:t>
            </a:r>
            <a:r>
              <a:rPr b="0" lang="ro-RO" sz="1800" spc="-1" strike="noStrike">
                <a:solidFill>
                  <a:srgbClr val="0d030c"/>
                </a:solidFill>
                <a:latin typeface="Tahoma"/>
              </a:rPr>
              <a:t>, Larousee,1995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UM INFLUENTEAZA CUNOASTEREA ISTORIEI VIATA OAMENILOR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346536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arc-triomphe-carrousel[1]"/>
          <p:cNvPicPr/>
          <p:nvPr/>
        </p:nvPicPr>
        <p:blipFill>
          <a:blip r:embed="rId1"/>
          <a:stretch/>
        </p:blipFill>
        <p:spPr>
          <a:xfrm>
            <a:off x="-1371600" y="-228600"/>
            <a:ext cx="11506320" cy="73152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8"/>
          <p:cNvSpPr/>
          <p:nvPr/>
        </p:nvSpPr>
        <p:spPr>
          <a:xfrm rot="20163600">
            <a:off x="650160" y="1742400"/>
            <a:ext cx="5551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auhaus 93"/>
              </a:rPr>
              <a:t>CUM INFLUENTEAZA CUNOASTEREA ISTORIEI VIATA OAMENILOR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grande-arche-paris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 rot="20273400">
            <a:off x="-734400" y="2116440"/>
            <a:ext cx="9369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ladimir Script"/>
              </a:rPr>
              <a:t>Cunoasterea istoriei, obiceiurilor si traditiile unei tari ne ajuta sa ne imbogatim cunostintele pe care le putem folosi apoi in viata cotidiana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ARCHE031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73915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762120" y="457200"/>
            <a:ext cx="6095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d"/>
                </a:solidFill>
                <a:latin typeface="Script MT Bold"/>
              </a:rPr>
              <a:t>Prezentarea este o incursiune in cultura si civilizatia Frantei in cadrul unui circuit turistic, cu scopul de a cunoaste si aprofunda cunostintele despre centrul si monumentele Parisulu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eiffel-tower-lb5[1]"/>
          <p:cNvPicPr/>
          <p:nvPr/>
        </p:nvPicPr>
        <p:blipFill>
          <a:blip r:embed="rId1"/>
          <a:stretch/>
        </p:blipFill>
        <p:spPr>
          <a:xfrm>
            <a:off x="-685800" y="0"/>
            <a:ext cx="98298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228600" y="762120"/>
            <a:ext cx="662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 Condensed"/>
              </a:rPr>
              <a:t>Turnul Eiffel a fost construit intre 1887-1889, </a:t>
            </a:r>
            <a:r>
              <a:rPr b="0" lang="it-IT" sz="2400" spc="-1" strike="noStrike">
                <a:solidFill>
                  <a:srgbClr val="ffffff"/>
                </a:solidFill>
                <a:latin typeface="Rockwell Condensed"/>
              </a:rPr>
              <a:t>in onoarea centenarului Revolutiei franceze, </a:t>
            </a:r>
            <a:r>
              <a:rPr b="0" lang="en-US" sz="2400" spc="-1" strike="noStrike">
                <a:solidFill>
                  <a:srgbClr val="ffffff"/>
                </a:solidFill>
                <a:latin typeface="Rockwell Condensed"/>
              </a:rPr>
              <a:t>masoara 324 m si isi schimba inaltimea de cateva ori pe an, din cauza dilatarii aliajului. Necesita 70 tone de vopsea o data la 7 an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eiffel-tower-night-xds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 rot="20671800">
            <a:off x="317520" y="1798560"/>
            <a:ext cx="62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ffffff"/>
                </a:solidFill>
                <a:latin typeface="Tahoma"/>
              </a:rPr>
              <a:t>Turnu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vi-VN" sz="1800" spc="-1" strike="noStrike">
                <a:solidFill>
                  <a:srgbClr val="ffffff"/>
                </a:solidFill>
                <a:latin typeface="Tahoma"/>
              </a:rPr>
              <a:t>este una dintre principalele destinaţii turistice ale Parisului şi lumii, cu mai mult de 5,5 milioane de vizitatori anual.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 fiecare ora fixa turnul se lumineaza pentru 10 minut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la place du tert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5031720" y="594360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Les Bouquinistes de la Sei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louvre-museum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228600" y="502920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ush Script MT"/>
                <a:ea typeface="Estrangelo Edessa"/>
              </a:rPr>
              <a:t>Versailles, </a:t>
            </a:r>
            <a:r>
              <a:rPr b="0" lang="it-IT" sz="3200" spc="-1" strike="noStrike">
                <a:solidFill>
                  <a:srgbClr val="ff0000"/>
                </a:solidFill>
                <a:latin typeface="Brush Script MT"/>
                <a:ea typeface="Estrangelo Edessa"/>
              </a:rPr>
              <a:t>Cel mai renumit palat din Franta, 350 de ani de istori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louvre-pyramid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 rot="1291800">
            <a:off x="2705040" y="13860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vrul </a:t>
            </a:r>
            <a:r>
              <a:rPr b="0" lang="vi-VN" sz="2400" spc="-1" strike="noStrike">
                <a:solidFill>
                  <a:srgbClr val="ffffff"/>
                </a:solidFill>
                <a:latin typeface="Tahoma"/>
              </a:rPr>
              <a:t>este cel mai mare muzeu de istorie şi artă din Franţ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Adaposteste cele mai importante opere de arta din lu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9:34:49Z</dcterms:created>
  <dc:creator>sabin&amp;lumi</dc:creator>
  <dc:description/>
  <dc:language>en-US</dc:language>
  <cp:lastModifiedBy>mihai</cp:lastModifiedBy>
  <dcterms:modified xsi:type="dcterms:W3CDTF">2004-07-29T05:44:45Z</dcterms:modified>
  <cp:revision>17</cp:revision>
  <dc:subject/>
  <dc:title>Slide 1</dc:title>
</cp:coreProperties>
</file>